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EE6-8A04-45B8-ACE6-B4E8E92C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9E5-2878-4D40-B1C5-3A88344D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E1C-DAB9-4EF1-B157-5063E982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B7D-014D-4977-9119-9E54F341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6EF-2708-48F6-8CAD-815378ED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635-7E89-45C2-A10F-DB9F5403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624-C4A0-46BA-8C00-E3ADD93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249-5209-457C-A613-83218B3F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B51-F7EB-45E1-A282-E5BB7682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C43-5139-4332-8C40-D59EE52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5BB-DEA4-4AD1-9346-A36A12C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BA1-8A8E-4EED-9AB6-42680D2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AC3B-4512-4927-820D-87C1F5264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1692360" y="2517480"/>
            <a:ext cx="4589280" cy="1811520"/>
            <a:chOff x="1692360" y="2517480"/>
            <a:chExt cx="4589280" cy="1811520"/>
          </a:xfrm>
        </p:grpSpPr>
        <p:sp>
          <p:nvSpPr>
            <p:cNvPr id="42" name="Rectangle 4"/>
            <p:cNvSpPr/>
            <p:nvPr/>
          </p:nvSpPr>
          <p:spPr>
            <a:xfrm>
              <a:off x="3672000" y="2529000"/>
              <a:ext cx="1800000" cy="1800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5"/>
            <p:cNvSpPr/>
            <p:nvPr/>
          </p:nvSpPr>
          <p:spPr>
            <a:xfrm>
              <a:off x="1692360" y="2529000"/>
              <a:ext cx="1800000" cy="180000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5560920" y="2517480"/>
              <a:ext cx="720720" cy="1801800"/>
              <a:chOff x="5560920" y="2517480"/>
              <a:chExt cx="720720" cy="1801800"/>
            </a:xfrm>
          </p:grpSpPr>
          <p:sp>
            <p:nvSpPr>
              <p:cNvPr id="45" name="Line 6"/>
              <p:cNvSpPr/>
              <p:nvPr/>
            </p:nvSpPr>
            <p:spPr>
              <a:xfrm flipV="1">
                <a:off x="6137280" y="2517480"/>
                <a:ext cx="0" cy="180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7"/>
              <p:cNvSpPr/>
              <p:nvPr/>
            </p:nvSpPr>
            <p:spPr>
              <a:xfrm>
                <a:off x="5560920" y="4319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8"/>
              <p:cNvSpPr/>
              <p:nvPr/>
            </p:nvSpPr>
            <p:spPr>
              <a:xfrm>
                <a:off x="5560920" y="25174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9"/>
              <p:cNvSpPr/>
              <p:nvPr/>
            </p:nvSpPr>
            <p:spPr>
              <a:xfrm rot="16200000">
                <a:off x="5608440" y="323820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Line 11"/>
            <p:cNvSpPr/>
            <p:nvPr/>
          </p:nvSpPr>
          <p:spPr>
            <a:xfrm flipH="1">
              <a:off x="2555640" y="3429000"/>
              <a:ext cx="3095640" cy="0"/>
            </a:xfrm>
            <a:prstGeom prst="line">
              <a:avLst/>
            </a:prstGeom>
            <a:ln w="127080">
              <a:solidFill>
                <a:srgbClr val="00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8000" y="911160"/>
            <a:ext cx="9691560" cy="5035680"/>
            <a:chOff x="108000" y="911160"/>
            <a:chExt cx="9691560" cy="5035680"/>
          </a:xfrm>
        </p:grpSpPr>
        <p:sp>
          <p:nvSpPr>
            <p:cNvPr id="51" name=""/>
            <p:cNvSpPr/>
            <p:nvPr/>
          </p:nvSpPr>
          <p:spPr>
            <a:xfrm flipH="1">
              <a:off x="32824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388960" y="34369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063760" y="341784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1698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5480" y="21337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89120" y="2131200"/>
              <a:ext cx="0" cy="25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25480" y="471636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535040" y="472284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14320" y="2131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25320" y="213984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57000" y="343836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698480" y="3436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708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、取付け具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の取付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0072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ポスト処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800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シミュレーショ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7164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加工定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3672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ＣＡＤデータの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71640" y="1177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素材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1640" y="3760920"/>
              <a:ext cx="576000" cy="191268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94">
                  <a:moveTo>
                    <a:pt x="3600" y="0"/>
                  </a:moveTo>
                  <a:arcTo wR="3600" hR="3600" stAng="16200000" swAng="-5400000"/>
                  <a:lnTo>
                    <a:pt x="0" y="68094"/>
                  </a:lnTo>
                  <a:arcTo wR="3600" hR="3600" stAng="10800000" swAng="-5400000"/>
                  <a:lnTo>
                    <a:pt x="18000" y="71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0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図面の検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01164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8496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94800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21680" y="2482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試し削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895880" y="34401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69200" y="2494080"/>
              <a:ext cx="576360" cy="191268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49">
                  <a:moveTo>
                    <a:pt x="3600" y="0"/>
                  </a:moveTo>
                  <a:arcTo wR="3600" hR="3600" stAng="16200000" swAng="-5400000"/>
                  <a:lnTo>
                    <a:pt x="0" y="68049"/>
                  </a:lnTo>
                  <a:arcTo wR="3600" hR="3600" stAng="10800000" swAng="-5400000"/>
                  <a:lnTo>
                    <a:pt x="18000" y="71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及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データ等の修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84988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本切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5640" y="911160"/>
              <a:ext cx="4464000" cy="5035680"/>
            </a:xfrm>
            <a:prstGeom prst="rect">
              <a:avLst/>
            </a:prstGeom>
            <a:noFill/>
            <a:ln cap="rnd" w="63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92720" y="911160"/>
              <a:ext cx="3743280" cy="5035680"/>
            </a:xfrm>
            <a:prstGeom prst="rect">
              <a:avLst/>
            </a:prstGeom>
            <a:noFill/>
            <a:ln cap="rnd" w="63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19280" y="5300640"/>
              <a:ext cx="3600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ＣＡＭシステムを利用したプログラミン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12000" y="5300640"/>
              <a:ext cx="1149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段取り作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8000" y="911160"/>
            <a:ext cx="9691560" cy="5035680"/>
            <a:chOff x="108000" y="911160"/>
            <a:chExt cx="9691560" cy="5035680"/>
          </a:xfrm>
        </p:grpSpPr>
        <p:sp>
          <p:nvSpPr>
            <p:cNvPr id="84" name=""/>
            <p:cNvSpPr/>
            <p:nvPr/>
          </p:nvSpPr>
          <p:spPr>
            <a:xfrm flipH="1">
              <a:off x="32824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388960" y="34369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63760" y="341784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1698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5480" y="21337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89120" y="2131200"/>
              <a:ext cx="0" cy="25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25480" y="471636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535040" y="472284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814320" y="2131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525320" y="213984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57000" y="343836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698480" y="3436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3708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、取付け具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の取付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072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1800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7164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672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1640" y="1177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素材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1640" y="3760920"/>
              <a:ext cx="576000" cy="191268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94">
                  <a:moveTo>
                    <a:pt x="3600" y="0"/>
                  </a:moveTo>
                  <a:arcTo wR="3600" hR="3600" stAng="16200000" swAng="-5400000"/>
                  <a:lnTo>
                    <a:pt x="0" y="68094"/>
                  </a:lnTo>
                  <a:arcTo wR="3600" hR="3600" stAng="10800000" swAng="-5400000"/>
                  <a:lnTo>
                    <a:pt x="18000" y="71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00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01164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8496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94800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1680" y="2482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試し削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895880" y="34401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69200" y="2494080"/>
              <a:ext cx="576360" cy="191268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49">
                  <a:moveTo>
                    <a:pt x="3600" y="0"/>
                  </a:moveTo>
                  <a:arcTo wR="3600" hR="3600" stAng="16200000" swAng="-5400000"/>
                  <a:lnTo>
                    <a:pt x="0" y="68049"/>
                  </a:lnTo>
                  <a:arcTo wR="3600" hR="3600" stAng="10800000" swAng="-5400000"/>
                  <a:lnTo>
                    <a:pt x="18000" y="71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及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データ等の修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84988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320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本切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5640" y="911160"/>
              <a:ext cx="4464000" cy="5035680"/>
            </a:xfrm>
            <a:prstGeom prst="rect">
              <a:avLst/>
            </a:prstGeom>
            <a:noFill/>
            <a:ln cap="rnd" w="63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92720" y="911160"/>
              <a:ext cx="3743280" cy="5035680"/>
            </a:xfrm>
            <a:prstGeom prst="rect">
              <a:avLst/>
            </a:prstGeom>
            <a:noFill/>
            <a:ln cap="rnd" w="63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19280" y="5300640"/>
              <a:ext cx="3600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ＣＡＭシステムを利用したプログラミン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2000" y="5300640"/>
              <a:ext cx="1149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段取り作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042920" y="260280"/>
            <a:ext cx="144000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2627280" y="728640"/>
            <a:ext cx="719280" cy="7192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79280" y="728640"/>
            <a:ext cx="719280" cy="7192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539640" y="10875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977080" y="0"/>
            <a:ext cx="3166920" cy="2025720"/>
            <a:chOff x="5977080" y="0"/>
            <a:chExt cx="3166920" cy="2025720"/>
          </a:xfrm>
        </p:grpSpPr>
        <p:sp>
          <p:nvSpPr>
            <p:cNvPr id="121" name="Rectangle 4"/>
            <p:cNvSpPr/>
            <p:nvPr/>
          </p:nvSpPr>
          <p:spPr>
            <a:xfrm>
              <a:off x="6840720" y="117720"/>
              <a:ext cx="1440000" cy="107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8425080" y="586080"/>
              <a:ext cx="71892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"/>
            <p:cNvSpPr/>
            <p:nvPr/>
          </p:nvSpPr>
          <p:spPr>
            <a:xfrm>
              <a:off x="5977080" y="586080"/>
              <a:ext cx="71928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337440" y="94464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5977080" y="0"/>
              <a:ext cx="71928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"/>
            <p:cNvSpPr/>
            <p:nvPr/>
          </p:nvSpPr>
          <p:spPr>
            <a:xfrm>
              <a:off x="8425080" y="0"/>
              <a:ext cx="71892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H="1">
              <a:off x="6337440" y="35892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337440" y="370080"/>
              <a:ext cx="0" cy="57456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6840720" y="18813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6840720" y="130500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8282160" y="130500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7281360" y="151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6697800" y="108900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6337440" y="188136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6267960" y="151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97800" y="18813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334600" y="2060640"/>
            <a:ext cx="3819960" cy="2736720"/>
            <a:chOff x="2334600" y="2060640"/>
            <a:chExt cx="3819960" cy="2736720"/>
          </a:xfrm>
        </p:grpSpPr>
        <p:sp>
          <p:nvSpPr>
            <p:cNvPr id="138" name="Rectangle 4"/>
            <p:cNvSpPr/>
            <p:nvPr/>
          </p:nvSpPr>
          <p:spPr>
            <a:xfrm>
              <a:off x="3851280" y="2889360"/>
              <a:ext cx="1440000" cy="107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"/>
            <p:cNvSpPr/>
            <p:nvPr/>
          </p:nvSpPr>
          <p:spPr>
            <a:xfrm>
              <a:off x="5435640" y="3357720"/>
              <a:ext cx="71892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2987640" y="3357720"/>
              <a:ext cx="71928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3348000" y="371628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"/>
            <p:cNvSpPr/>
            <p:nvPr/>
          </p:nvSpPr>
          <p:spPr>
            <a:xfrm>
              <a:off x="2987640" y="2771640"/>
              <a:ext cx="71928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5435640" y="2771640"/>
              <a:ext cx="71892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 flipH="1">
              <a:off x="3348000" y="313056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48000" y="3141720"/>
              <a:ext cx="0" cy="57456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3851280" y="465300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>
              <a:off x="3851280" y="407664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5292720" y="407664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4291920" y="42854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3708360" y="386064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3348000" y="465300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3278520" y="428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8360" y="4653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5438880" y="386064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5435640" y="464652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5569200" y="428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6240" y="4653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3852720" y="3321000"/>
              <a:ext cx="1440000" cy="21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34600" y="3129120"/>
              <a:ext cx="942120" cy="618840"/>
              <a:chOff x="2334600" y="3129120"/>
              <a:chExt cx="942120" cy="618840"/>
            </a:xfrm>
          </p:grpSpPr>
          <p:sp>
            <p:nvSpPr>
              <p:cNvPr id="160" name="Line 6"/>
              <p:cNvSpPr/>
              <p:nvPr/>
            </p:nvSpPr>
            <p:spPr>
              <a:xfrm>
                <a:off x="2700360" y="3129120"/>
                <a:ext cx="0" cy="6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7"/>
              <p:cNvSpPr/>
              <p:nvPr/>
            </p:nvSpPr>
            <p:spPr>
              <a:xfrm flipH="1">
                <a:off x="2556000" y="312912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8"/>
              <p:cNvSpPr/>
              <p:nvPr/>
            </p:nvSpPr>
            <p:spPr>
              <a:xfrm flipH="1">
                <a:off x="2556000" y="373536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9"/>
              <p:cNvSpPr/>
              <p:nvPr/>
            </p:nvSpPr>
            <p:spPr>
              <a:xfrm rot="16200000">
                <a:off x="2301840" y="3245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23160" y="2066040"/>
              <a:ext cx="433800" cy="942120"/>
              <a:chOff x="3323160" y="2066040"/>
              <a:chExt cx="433800" cy="942120"/>
            </a:xfrm>
          </p:grpSpPr>
          <p:sp>
            <p:nvSpPr>
              <p:cNvPr id="165" name="Line 6"/>
              <p:cNvSpPr/>
              <p:nvPr/>
            </p:nvSpPr>
            <p:spPr>
              <a:xfrm flipH="1">
                <a:off x="3347640" y="2432160"/>
                <a:ext cx="37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7"/>
              <p:cNvSpPr/>
              <p:nvPr/>
            </p:nvSpPr>
            <p:spPr>
              <a:xfrm flipV="1">
                <a:off x="372096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8"/>
              <p:cNvSpPr/>
              <p:nvPr/>
            </p:nvSpPr>
            <p:spPr>
              <a:xfrm flipV="1">
                <a:off x="336060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9"/>
              <p:cNvSpPr/>
              <p:nvPr/>
            </p:nvSpPr>
            <p:spPr>
              <a:xfrm>
                <a:off x="3323160" y="2066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398200" y="2066040"/>
              <a:ext cx="433800" cy="942120"/>
              <a:chOff x="5398200" y="2066040"/>
              <a:chExt cx="433800" cy="942120"/>
            </a:xfrm>
          </p:grpSpPr>
          <p:sp>
            <p:nvSpPr>
              <p:cNvPr id="170" name="Line 6"/>
              <p:cNvSpPr/>
              <p:nvPr/>
            </p:nvSpPr>
            <p:spPr>
              <a:xfrm flipH="1">
                <a:off x="5422680" y="2432160"/>
                <a:ext cx="37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 flipV="1">
                <a:off x="579600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V="1">
                <a:off x="543564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9"/>
              <p:cNvSpPr/>
              <p:nvPr/>
            </p:nvSpPr>
            <p:spPr>
              <a:xfrm>
                <a:off x="5398200" y="2066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851280" y="2060640"/>
              <a:ext cx="1438200" cy="647640"/>
            </a:xfrm>
            <a:prstGeom prst="wedgeRectCallout">
              <a:avLst>
                <a:gd name="adj1" fmla="val 44370"/>
                <a:gd name="adj2" fmla="val 141912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オーバーラップ量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803280" y="-243000"/>
            <a:ext cx="3242160" cy="3019320"/>
            <a:chOff x="6803280" y="-243000"/>
            <a:chExt cx="3242160" cy="3019320"/>
          </a:xfrm>
        </p:grpSpPr>
        <p:sp>
          <p:nvSpPr>
            <p:cNvPr id="176" name="Line 6"/>
            <p:cNvSpPr/>
            <p:nvPr/>
          </p:nvSpPr>
          <p:spPr>
            <a:xfrm flipV="1">
              <a:off x="9901080" y="83160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9324720" y="22636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9324720" y="83304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 rot="16200000">
              <a:off x="9509040" y="1366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7812000" y="83160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7668360" y="144828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8080200" y="-150840"/>
              <a:ext cx="904680" cy="720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6806520" y="183960"/>
              <a:ext cx="1726200" cy="1008000"/>
              <a:chOff x="6806520" y="183960"/>
              <a:chExt cx="1726200" cy="1008000"/>
            </a:xfrm>
          </p:grpSpPr>
          <p:sp>
            <p:nvSpPr>
              <p:cNvPr id="184" name="Line 7"/>
              <p:cNvSpPr/>
              <p:nvPr/>
            </p:nvSpPr>
            <p:spPr>
              <a:xfrm flipH="1">
                <a:off x="7020000" y="83160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7020000" y="68868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"/>
              <p:cNvSpPr/>
              <p:nvPr/>
            </p:nvSpPr>
            <p:spPr>
              <a:xfrm>
                <a:off x="7164360" y="18396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9"/>
              <p:cNvSpPr/>
              <p:nvPr/>
            </p:nvSpPr>
            <p:spPr>
              <a:xfrm rot="16200000">
                <a:off x="6837120" y="155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64360" y="68868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"/>
              <p:cNvSpPr/>
              <p:nvPr/>
            </p:nvSpPr>
            <p:spPr>
              <a:xfrm>
                <a:off x="7164360" y="83952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7"/>
            <p:cNvSpPr/>
            <p:nvPr/>
          </p:nvSpPr>
          <p:spPr>
            <a:xfrm flipH="1">
              <a:off x="7016760" y="241596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7016400" y="227304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7161120" y="176832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 rot="16200000">
              <a:off x="6833880" y="173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1120" y="227304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7161120" y="242388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42560" y="1633680"/>
            <a:ext cx="3242160" cy="3388680"/>
            <a:chOff x="2842560" y="1633680"/>
            <a:chExt cx="3242160" cy="3388680"/>
          </a:xfrm>
        </p:grpSpPr>
        <p:sp>
          <p:nvSpPr>
            <p:cNvPr id="197" name="Line 6"/>
            <p:cNvSpPr/>
            <p:nvPr/>
          </p:nvSpPr>
          <p:spPr>
            <a:xfrm flipV="1">
              <a:off x="5940360" y="270828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5364000" y="414036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>
              <a:off x="5364000" y="27097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 rot="16200000">
              <a:off x="5548320" y="324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3851280" y="270828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3707640" y="332496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119480" y="1725480"/>
              <a:ext cx="904680" cy="720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45800" y="2060640"/>
              <a:ext cx="1726200" cy="1008000"/>
              <a:chOff x="2845800" y="2060640"/>
              <a:chExt cx="1726200" cy="1008000"/>
            </a:xfrm>
          </p:grpSpPr>
          <p:sp>
            <p:nvSpPr>
              <p:cNvPr id="205" name="Line 7"/>
              <p:cNvSpPr/>
              <p:nvPr/>
            </p:nvSpPr>
            <p:spPr>
              <a:xfrm flipH="1">
                <a:off x="3059280" y="2708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 flipH="1">
                <a:off x="3059280" y="256536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"/>
              <p:cNvSpPr/>
              <p:nvPr/>
            </p:nvSpPr>
            <p:spPr>
              <a:xfrm>
                <a:off x="3203640" y="206064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9"/>
              <p:cNvSpPr/>
              <p:nvPr/>
            </p:nvSpPr>
            <p:spPr>
              <a:xfrm rot="16200000">
                <a:off x="2876400" y="2032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03640" y="256536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"/>
              <p:cNvSpPr/>
              <p:nvPr/>
            </p:nvSpPr>
            <p:spPr>
              <a:xfrm>
                <a:off x="3203640" y="271620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7"/>
            <p:cNvSpPr/>
            <p:nvPr/>
          </p:nvSpPr>
          <p:spPr>
            <a:xfrm flipH="1">
              <a:off x="3056040" y="429264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 flipH="1">
              <a:off x="3055680" y="414972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3200400" y="364500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 rot="16200000">
              <a:off x="2873160" y="361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00400" y="414972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3200400" y="430056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H="1">
              <a:off x="3416400" y="457668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 rot="16200000">
              <a:off x="3222000" y="467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60760" y="4292640"/>
              <a:ext cx="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3560760" y="45846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6"/>
            <p:cNvSpPr/>
            <p:nvPr/>
          </p:nvSpPr>
          <p:spPr>
            <a:xfrm>
              <a:off x="3559320" y="4005360"/>
              <a:ext cx="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842560" y="1341360"/>
            <a:ext cx="3242160" cy="3681000"/>
            <a:chOff x="2842560" y="1341360"/>
            <a:chExt cx="3242160" cy="3681000"/>
          </a:xfrm>
        </p:grpSpPr>
        <p:sp>
          <p:nvSpPr>
            <p:cNvPr id="223" name="Line 6"/>
            <p:cNvSpPr/>
            <p:nvPr/>
          </p:nvSpPr>
          <p:spPr>
            <a:xfrm flipV="1">
              <a:off x="5940360" y="270828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>
              <a:off x="5364000" y="414036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>
              <a:off x="5364000" y="27097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 rot="16200000">
              <a:off x="5548320" y="324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851280" y="270828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707640" y="332496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4119480" y="1433520"/>
              <a:ext cx="905040" cy="72072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845800" y="1763640"/>
              <a:ext cx="1726200" cy="1305000"/>
              <a:chOff x="2845800" y="1763640"/>
              <a:chExt cx="1726200" cy="1305000"/>
            </a:xfrm>
          </p:grpSpPr>
          <p:sp>
            <p:nvSpPr>
              <p:cNvPr id="231" name="Line 7"/>
              <p:cNvSpPr/>
              <p:nvPr/>
            </p:nvSpPr>
            <p:spPr>
              <a:xfrm flipH="1">
                <a:off x="3059280" y="2708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 flipH="1">
                <a:off x="3059280" y="226836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6"/>
              <p:cNvSpPr/>
              <p:nvPr/>
            </p:nvSpPr>
            <p:spPr>
              <a:xfrm>
                <a:off x="3203640" y="176364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9"/>
              <p:cNvSpPr/>
              <p:nvPr/>
            </p:nvSpPr>
            <p:spPr>
              <a:xfrm rot="16200000">
                <a:off x="2876400" y="17348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03640" y="2276640"/>
                <a:ext cx="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6"/>
              <p:cNvSpPr/>
              <p:nvPr/>
            </p:nvSpPr>
            <p:spPr>
              <a:xfrm>
                <a:off x="3203640" y="271620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Line 7"/>
            <p:cNvSpPr/>
            <p:nvPr/>
          </p:nvSpPr>
          <p:spPr>
            <a:xfrm flipH="1">
              <a:off x="3056040" y="429264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 flipH="1">
              <a:off x="3055680" y="414972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3200400" y="364500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 rot="16200000">
              <a:off x="2873160" y="361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414972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>
              <a:off x="3200400" y="430056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 flipH="1">
              <a:off x="3416400" y="457668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9"/>
            <p:cNvSpPr/>
            <p:nvPr/>
          </p:nvSpPr>
          <p:spPr>
            <a:xfrm rot="16200000">
              <a:off x="3222000" y="467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60760" y="4292640"/>
              <a:ext cx="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3560760" y="45846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6"/>
            <p:cNvSpPr/>
            <p:nvPr/>
          </p:nvSpPr>
          <p:spPr>
            <a:xfrm>
              <a:off x="3559320" y="4005360"/>
              <a:ext cx="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69920" y="3059280"/>
            <a:ext cx="7208640" cy="1809720"/>
            <a:chOff x="169920" y="3059280"/>
            <a:chExt cx="7208640" cy="1809720"/>
          </a:xfrm>
        </p:grpSpPr>
        <p:sp>
          <p:nvSpPr>
            <p:cNvPr id="249" name=""/>
            <p:cNvSpPr/>
            <p:nvPr/>
          </p:nvSpPr>
          <p:spPr>
            <a:xfrm>
              <a:off x="896760" y="3429000"/>
              <a:ext cx="3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7820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5748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3856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964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0072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0000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604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3712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820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9928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920" y="305928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5892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4000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2900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072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972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964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5892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000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072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972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5964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971640" y="549360"/>
            <a:ext cx="7202520" cy="1800000"/>
            <a:chOff x="971640" y="549360"/>
            <a:chExt cx="7202520" cy="1800000"/>
          </a:xfrm>
        </p:grpSpPr>
        <p:sp>
          <p:nvSpPr>
            <p:cNvPr id="275" name=""/>
            <p:cNvSpPr/>
            <p:nvPr/>
          </p:nvSpPr>
          <p:spPr>
            <a:xfrm>
              <a:off x="168912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7020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984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9272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092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738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200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488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9308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4160" y="163044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9236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35240" y="163044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344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1020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128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2912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7236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020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5344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9128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20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10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0640" y="54936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71640" y="54936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4:38:10Z</dcterms:created>
  <dc:creator>ポリテクセンター静岡</dc:creator>
  <dc:description/>
  <dc:language>en-US</dc:language>
  <cp:lastModifiedBy>ポリテクセンター静岡</cp:lastModifiedBy>
  <dcterms:modified xsi:type="dcterms:W3CDTF">2011-08-01T04:19:17Z</dcterms:modified>
  <cp:revision>21</cp:revision>
  <dc:subject/>
  <dc:title>スライド 1</dc:title>
</cp:coreProperties>
</file>