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698-F90A-4B37-B2ED-9C63ED26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218-14F0-4715-A8C8-5B22F585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4A1-17A1-4149-B5B5-02AF9358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AEE-090F-408D-AABB-7C0FFBC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FAE-8A41-4279-9226-5D10E7AD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540-E861-4966-921A-CA986F33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934-974D-4F5E-9344-58351C42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A92-68B6-43F0-9B79-15C5D5F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020-64E7-41CB-A87D-FBE774B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F6A-1F6A-4406-AAE3-F0D4903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187-2993-4B91-AAFC-DA60E17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48B-6E8A-42D4-B6E7-5F5F96F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DB1-DAEF-4266-8ACF-96B0DBAA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116000" y="671400"/>
          <a:ext cx="655308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71400"/>
                    <a:ext cx="655308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23202" t="0" r="23218" b="0"/>
          <a:stretch/>
        </p:blipFill>
        <p:spPr>
          <a:xfrm>
            <a:off x="1571760" y="-189000"/>
            <a:ext cx="6000480" cy="72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25:51Z</dcterms:created>
  <dc:creator>テクニカルマネジメント07</dc:creator>
  <dc:description/>
  <dc:language>en-US</dc:language>
  <cp:lastModifiedBy>mcad12</cp:lastModifiedBy>
  <dcterms:modified xsi:type="dcterms:W3CDTF">2011-07-11T03:06:44Z</dcterms:modified>
  <cp:revision>12</cp:revision>
  <dc:subject/>
  <dc:title>スライド 1</dc:title>
</cp:coreProperties>
</file>